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F24-27F4-451F-9113-CFFEAA32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72F-3BC1-4566-99C9-56173AE6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40C-461F-4DB6-9357-31A61189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B04-51E3-4FA3-8B46-715719D3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565D-9336-49E4-8DB8-7E187C4B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3CBE-F5F7-4846-A3DC-8517C71A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F3C5-3B7F-4E7C-BBFC-7E3790CC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FD14-B5AC-48A0-B256-BC07F18F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CA12-BB66-4A0B-8454-6B54DC16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7BF3-AA55-49E0-8A80-17AA40D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ABB5-FD89-41E0-A103-B2BFCB4A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EC6-36F3-47A9-B3F7-E954F33E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811E-CEF3-4760-9808-AA4066F7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7FE3-858D-4885-8210-3C6F3B3C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86AC-9B82-4952-A324-16C828B6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59B8-06AD-4C70-8339-D5476852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A6E3-C8C7-4AD5-B3C5-81C8B972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D4A-AEAA-4A0D-835C-DA062ECD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09A-E852-43F7-8A24-56B019C2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204-6D07-478B-A6A3-CA4E884F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5A3-4062-41DF-A895-85E53E49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8B3-E8DA-41A2-BFC9-70383AC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716-E820-4675-92B9-D5000FEF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14E-660B-4A0A-BF7A-7BA0E08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0CF8-D4E4-439E-869B-0121C78E8A3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47E6-C22C-4EED-A999-2C4C21A0833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osta ANA de revisão da Resolução CNRH n.º 12/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7368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quadramento dos corpos de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ª Reunião CTPO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sília, 12 de setembro d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onferência Nacional do Meio Ambiente (2003) definiu como uma das me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vantar a situação atual dos cursos d’água principais e de seus afluentes e elaborar propostas de enquadramento de todos os cursos d’água até 2008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ção n.º 67/2005, do CONAMA, recomenda implementação de programa nacional, com dotação financeira própria, para o enquadramento dos corpos d’água, que inclua, entre outras, ações de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atualização normativ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de capacitação de recursos huma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lução CONAMA n.º 357/2005 revogou e substituiu Resolução CONAMA n.º 20/198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a os normativos que embasam a elaboração do enquadramento dos corpos hídricos e, conseqüent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a a aplicação da Resolução CNRH n.º 12/2000, que estabelece os procedimentos para o enquadramento dos corpos de água em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solução CNRH n.º 12/2000, art. 2º dispõ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gências de Águ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no âmbito de sua área de atuação, proporão aos respectivos Comitês de Bacia Hidrográfica o enquadramento de corpos de água em classes segundo os usos preponderantes, com base nas respectivas legislações de recursos hídricos e ambiental e segundo os procedimentos dispostos nesta Resolução.”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art 3º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para bacias sem agências de água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..as propostas poderão ser elaboradas pelos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sórcios ou associações intermunicipai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e bacias hidrográficas, com a participação dos órgãos gestores de recursos hídricos em conjunto com os órgãos de meio ambien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de a Resolução n.º 12/2000, não se tem conhecimento de que algum corpo de água tenha sido enquadrado segundo seus proc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 há Agências de Água nas bacias hidrográficas dos rios Piracicaba, Capivari e Jundiaí e do rio Paraíba do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olução CNRH n.º 12/2000 precisa ser revisada de modo a permitir que  outros atores do SINGREH realizem os enquadr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lano Nacional de Recursos Hídricos (PNRH) consta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programa III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mento aos Planos de Recursos Hídricos e ao Enquadramento dos Corpos Hídricos em Classes de U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programa III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er que os procedimentos relativos ao enquadramento estejam adequados aos novos norm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66720" y="271296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POS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osta ANA para a revisão da Resolução CNRH n.º 12/2000 obje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timizar a implementação do instr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r a possibilidade de execução dos estudos para o enquadramento dos corpos d’água por órgãos com competências para a gestã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equá-la a aos normativos da Resolução CONAMA n.º 357/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sta ANA de revisão permite atuar em três cenários disti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ário ide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gência de Água elabora proposta de enquad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mitê da Bacia escolhe a melhor alter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selho Nacional ou Estadual aprova, se for o c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Na ausência de Agência de Água, mas com Comitê de Ba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órgão competente de recursos hídricos, em conjunto com o órgão de meio ambiente, elabora proposta de enquad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mitê de Bacia supervisiona o processo e escolhe a melhor alter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selho Nacional ou Estadual aprova, se for o c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Na ausência de Comitê de Ba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órgão competente de recursos hídricos, em conjunto com o órgão de meio ambiente, elabora proposta de enquad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selho Nacional ou Estadual aprova, se for o cas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vi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 usuários e as comunidades interessadas (art. 1º, VI, da Lei n.º  9.433/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091" t="987" r="77224" b="92265"/>
          <a:stretch/>
        </p:blipFill>
        <p:spPr>
          <a:xfrm>
            <a:off x="0" y="0"/>
            <a:ext cx="6516720" cy="2816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1566720"/>
            <a:ext cx="7705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Superintendência de Outorga e Fisc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Luciano Meneses Cardoso da Silva, D.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meneses@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:  (61) 2109-5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ww.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09680" y="271296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acordo com o art. 35, VI, da Lei  n.º 9.433/1997, cabe ao CNRH estabelecer 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iretrizes complementa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implementação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rt 1º, XI, do Decreto n.º 4.613/2003, atribui ao CNRH a competência para aprovar o enquadramento de corpos de água em classes, em consonância com as diretrizes CONAMA e de acordo com a classificação estabelecida na legislação ambi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enquadramento de corpos de água em classes é um instrumento da Política Nacional de Recursos Hídricos (Lei n.º 9.433/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 matéria foi regulamentada pela Resolução CNRH n.º 12/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do dispositivo fora disciplinado anteriormente pela Resolução CONAMA n.º 20/1986, revista no âmbito do CONAMA pela Resolução n.º 357/200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enquadramento é um instrumento de convergência entre as Políticas de Meio Ambiente e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 repercussão operacional sobre os órgãos do SISNAMA e SINGR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 normalização compete ao CONAMA e ao CNRH, bem como seus pares estad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i referência para o licenciamento ambiental e para a outorga de direito de uso de recursos hídr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experiência brasileira em enquadramento é pouco expressiva apesar de a primeira legislação ter sido de 1976 (Portaria GM n.º 13/1976 do Ministério do Interior) e depois a Resolução CONAMA n.º 20/1986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sar de existir há 30 ano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enas trê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pos de água de domínio da União foram enquad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io Paranapanema (Portaria n.º 29/1980 da S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io Paraíba do Sul (Portaria n.º 86/1981 do Ministério do Int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io São Francisco (Portaria n.º 715/1989 do IB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nas dez estados realizaram, total ou parcialmente, o enquadr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 Grande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a Cata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o Grosso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as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í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g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374160" y="618156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nte: ANA (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2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ias de rios estaduais que possuem enquad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3802" t="20218" r="9476" b="20070"/>
          <a:stretch/>
        </p:blipFill>
        <p:spPr>
          <a:xfrm>
            <a:off x="2268360" y="620640"/>
            <a:ext cx="6193080" cy="6031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1760" y="5002200"/>
            <a:ext cx="457200" cy="304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1760" y="4227480"/>
            <a:ext cx="457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797440"/>
            <a:ext cx="4572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645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IS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013360"/>
            <a:ext cx="37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lução CONAMA nº 20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221000"/>
            <a:ext cx="41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Min. Interior nº 13/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7760" y="58183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enquadr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115920"/>
            <a:ext cx="79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ias de rios federais que possuem enquad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8200" y="640548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nte: ANA (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0787" t="12122" r="16670" b="31818"/>
          <a:stretch/>
        </p:blipFill>
        <p:spPr>
          <a:xfrm>
            <a:off x="2195640" y="609480"/>
            <a:ext cx="6248160" cy="6248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66200" y="350532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ão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BAMA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160" y="480060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íba do S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EIVAP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120" y="533412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napan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941720"/>
            <a:ext cx="457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4149720"/>
            <a:ext cx="457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715000"/>
            <a:ext cx="45720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IS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4941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S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º 29/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napan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5715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IBAMA 715/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14972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Min. Interior nº 86/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íba do S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557424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EIPEMA (198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A-CGTI</cp:lastModifiedBy>
  <dcterms:modified xsi:type="dcterms:W3CDTF">2006-09-13T16:14:52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